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367EB-8E6F-4840-A843-6B33A72B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F6F5C-023F-4BAC-8BB7-0E459099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40BC6-4D13-4146-BC42-3B34C3F3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5ED74-6A59-4688-A739-91F4EA61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5FD6-F35B-4845-A0C4-C44FEDEC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6F60-FEAF-4D30-8D54-A0F666FB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3ECA-7ED0-460E-8208-B45EA4B5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052A-E038-4467-9DB3-ADFAD913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0752-FBE2-4CD1-9E13-1B6117FD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2952-E9CC-4895-B636-7225E6AC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2617-8D5B-4257-892D-E2DB20CC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3A62B-7AAB-4EB5-AE85-6FFB415B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46D0-BC5A-4396-BB6F-A6A63F61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CB8E-0DDA-4C65-9FD4-4E2F7E36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3690-0638-4031-A36E-DF77FFF7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36BA-0860-4265-A2DC-F12F0349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8A21-848D-43CE-9545-50D5734A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C5357-ACD3-4374-9E2C-D875726C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6CA2C-3E29-43D8-A97E-42CD37B6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B6E32-1D92-40F4-8FB6-964F7301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A7079-5F3E-45E5-8E04-7755DCCF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9E1B8-0985-4D56-8CB8-EE419B03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7EA14-9A7B-4A0A-B283-5833FA47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9C3B4-86BA-427B-8F7F-1020D0AC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8212-5188-4418-B0ED-1D193F12DF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0BB3-24C5-42A5-9B32-42F9F43561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web.mit.edu/invent/iow/cade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152280"/>
            <a:ext cx="91440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66"/>
                  </a:solidFill>
                  <a:miter/>
                </a:ln>
                <a:solidFill>
                  <a:srgbClr val="ff0066">
                    <a:alpha val="90000"/>
                  </a:srgbClr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atorade</a:t>
            </a:r>
            <a:endParaRPr b="0" lang="en-US" sz="1800" spc="1" strike="noStrike">
              <a:ln w="25560">
                <a:solidFill>
                  <a:srgbClr val="ff0066"/>
                </a:solidFill>
                <a:miter/>
              </a:ln>
              <a:solidFill>
                <a:srgbClr val="ff0066">
                  <a:alpha val="90000"/>
                </a:srgbClr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5029200"/>
            <a:ext cx="2286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Autum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September 27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Period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Computer #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791320"/>
            <a:ext cx="670572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usic: Free Play Music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Funky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, 10/4/2010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34340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45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vention: Gatora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atorade was invented in 1965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inventor, Robert James Cade, named the drink gatorade after the team he invented it for, the Gators, and his last name, Cad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de and his team of doctors also invented over 15 other kinds gatorade flavors and energy chewing gu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tradition of pouring gatorade over your head originally started with the New York Giants in 1987 after they won the super bow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2001, gatorade was well on it’s way to worldwide sales in the bill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00"/>
            </a:gs>
            <a:gs pos="50000">
              <a:srgbClr val="ff0066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ventor: Robert James Ca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bert James Cade was born in San Antonio, Texas on September 16, 1927 and died in Gainsville, Florida on November 27, 2007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de was the leader of the research team that invented gatorad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high school Cade ran the mile in four minutes, 20 seconds and loved spor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 married Mary Strausberger, a nurse in Dallas, Tex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 got his doctor of medicine degree and bachelor of science degree after graduating from the University of Florid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cc"/>
            </a:gs>
            <a:gs pos="100000">
              <a:srgbClr val="99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Cade"/>
          <p:cNvPicPr/>
          <p:nvPr/>
        </p:nvPicPr>
        <p:blipFill>
          <a:blip r:embed="rId1"/>
          <a:stretch/>
        </p:blipFill>
        <p:spPr>
          <a:xfrm>
            <a:off x="304920" y="380880"/>
            <a:ext cx="7238880" cy="2971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Cade"/>
          <p:cNvPicPr/>
          <p:nvPr/>
        </p:nvPicPr>
        <p:blipFill>
          <a:blip r:embed="rId2"/>
          <a:srcRect l="0" t="0" r="61186" b="0"/>
          <a:stretch/>
        </p:blipFill>
        <p:spPr>
          <a:xfrm>
            <a:off x="6095880" y="3581280"/>
            <a:ext cx="2819520" cy="2057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5638680"/>
            <a:ext cx="8381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melson-MIT Program, 9-29-10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eb.mit.edu/invent/iow/cade.html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tor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12Z</dcterms:created>
  <dc:creator>install</dc:creator>
  <dc:description/>
  <dc:language>en-US</dc:language>
  <cp:lastModifiedBy>install</cp:lastModifiedBy>
  <dcterms:modified xsi:type="dcterms:W3CDTF">2010-10-13T18:09:15Z</dcterms:modified>
  <cp:revision>15</cp:revision>
  <dc:subject/>
  <dc:title>Slide 1</dc:title>
</cp:coreProperties>
</file>